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jpeg" ContentType="image/jpe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10C-C56C-42CE-8438-E1DC786E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916-A38F-480B-98BD-72DFB411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8EC-30E5-4CC8-8C81-1FF44501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CB2-04D9-4FD4-9746-DF35C8E3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7160-A344-46B8-A66D-C8927064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61E7-97AC-486E-BD4F-C881F670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CEBE-6687-43F3-A645-6B945DFA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E42-D633-4BAF-9C6C-34FA9359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DD01-A8D4-494F-82B4-764CB7F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F8BD-502E-4F0D-B604-A94D5425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AAFE-D3E0-458F-B650-AFEDED6C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23B-C34D-4E23-B994-1CEBB765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B87E-3381-4205-8D4A-90E850A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C82C-5B83-4887-97C6-2B0DAAD1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FAE7-2A97-4278-B0C5-1F036D53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9C78-FB9F-48D3-9E43-67437C17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F41-5BDF-4124-BA10-ADB7E618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FBC6-DC98-4539-9121-076832FB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D3CE-A711-46E8-9A53-CFEC76AE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F0F7-B169-4A12-8146-017AD92D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38E8-9D3C-4825-9569-81C30F62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D4FF-4496-4C0C-8D75-95FB595D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148-0535-4816-911F-E706E455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E437-D943-4A0A-828F-8EAE6169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3C5F-0DC1-4207-8603-4267A331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D4A3-F10E-41B8-9792-0926B26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034F-0FDE-42F0-8CDB-45C7ED97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BA65-046B-4B42-B3F4-A3344282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B309-71CD-4C38-8FCC-B0768F15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1719-AF67-44C1-AAC9-2458D869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5B2E-D210-48BD-B88E-A0B35FA4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71973-724C-411C-B794-E869B84B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AB5A-E335-4194-B3D2-6B2A4C22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080-44BA-476F-8E17-C8DBFE09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D8D6-EECB-4567-82B2-2A92304C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2F86-4BA2-4F56-B6ED-057A9585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AB6D9-80B2-4A70-9CF8-33F7C898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E45F-3D06-4839-8459-E8D81556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B523B-38F6-4772-A4B7-172071B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99C5-7061-4FAA-8A96-93F140F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D88C8-0AE1-4286-87A6-F69BADE5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B2D2-4551-45D3-8FA1-859AA749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2A24-AAA0-4E1D-9C62-CCE4817F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6DBCF-8139-43C9-AF7E-961B95B7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CD8-6AAD-45BA-B846-8617605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CB68-CC95-4091-A595-7602EB46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05FC9-3510-496A-AE0C-2A379B27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8B3AC-9AED-47FB-BB74-A9AA6845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447FE-F3D4-41A5-8EB5-8E369D70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D1CB7-C0F4-4596-B981-653C967F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4566-4C09-41A0-81FC-C98FE37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52CB-0DBE-483B-9CC9-9357D833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F35FD-FA54-485F-B6B7-B6239B66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CD602-DDEB-4586-9B14-9288395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94574-F185-4E91-8C78-D3EB64BF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072-2A76-454B-916B-3DE5BD9E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7CAA-0B01-4040-96D4-3A04FA96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E5D-A80B-41CE-B772-D684D103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64C-E11C-4493-B139-04556779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94F-BA91-4722-AD8F-54FDE56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07BE-8BB7-40A1-A09F-60FA89E1E6C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87A3-3492-4E3C-B9EF-9EA4C209A6E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E298-A926-454E-939C-DD97C07521F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5A58-55B0-44CC-AD6C-D66A9A5BC62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173-C36A-468B-AACA-2401F702F93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8" descr=""/>
          <p:cNvPicPr/>
          <p:nvPr/>
        </p:nvPicPr>
        <p:blipFill>
          <a:blip r:embed="rId1"/>
          <a:stretch/>
        </p:blipFill>
        <p:spPr>
          <a:xfrm>
            <a:off x="2889360" y="463680"/>
            <a:ext cx="5589360" cy="1450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00400" y="2514600"/>
            <a:ext cx="5114880" cy="144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By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Megan and Natali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Documents and Settings\s128343\Local Settings\Temp\Temporary Internet Files\Content.IE5\PXCBB7V5\MC900174327[1].wmf"/>
          <p:cNvPicPr/>
          <p:nvPr/>
        </p:nvPicPr>
        <p:blipFill>
          <a:blip r:embed="rId2"/>
          <a:stretch/>
        </p:blipFill>
        <p:spPr>
          <a:xfrm>
            <a:off x="3962520" y="3962520"/>
            <a:ext cx="4190760" cy="267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s128343\Local Settings\Temp\Temporary Internet Files\Content.IE5\ZUCTHZ1T\MC900432542[1].png"/>
          <p:cNvPicPr/>
          <p:nvPr/>
        </p:nvPicPr>
        <p:blipFill>
          <a:blip r:embed="rId3"/>
          <a:stretch/>
        </p:blipFill>
        <p:spPr>
          <a:xfrm>
            <a:off x="2743200" y="213372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74304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person that runs the executive branch is the presid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job of the executive branch is to make sure that laws are carried out like they should b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Usually the president keeps his job for four years then another president is voted but the president can run two times then he is retir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C:\Documents and Settings\s128343\Local Settings\Temp\Temporary Internet Files\Content.IE5\ZUCTHZ1T\MC900440038[1].wmf"/>
          <p:cNvPicPr/>
          <p:nvPr/>
        </p:nvPicPr>
        <p:blipFill>
          <a:blip r:embed="rId2"/>
          <a:stretch/>
        </p:blipFill>
        <p:spPr>
          <a:xfrm>
            <a:off x="2895480" y="198108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450720" y="811080"/>
            <a:ext cx="7255080" cy="657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4b73"/>
                </a:solidFill>
                <a:latin typeface="Trebuchet MS"/>
              </a:rPr>
              <a:t>The judicial branch is called the supreme cour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4b73"/>
                </a:solidFill>
                <a:latin typeface="Trebuchet MS"/>
              </a:rPr>
              <a:t>The job of the judicial branch is to decide if the laws follow the constitu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34b73"/>
                </a:solidFill>
                <a:latin typeface="Trebuchet MS"/>
              </a:rPr>
              <a:t>The judicial branch usually until they retire or until they d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C:\Documents and Settings\s128343\Local Settings\Temp\Temporary Internet Files\Content.IE5\F0YNA0EM\MP900401087[1].jpg"/>
          <p:cNvPicPr/>
          <p:nvPr/>
        </p:nvPicPr>
        <p:blipFill>
          <a:blip r:embed="rId2"/>
          <a:stretch/>
        </p:blipFill>
        <p:spPr>
          <a:xfrm>
            <a:off x="1676520" y="2057400"/>
            <a:ext cx="2819160" cy="13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:\Documents and Settings\s128343\Local Settings\Temp\Temporary Internet Files\Content.IE5\PXCBB7V5\MP910220809[1].jpg"/>
          <p:cNvPicPr/>
          <p:nvPr/>
        </p:nvPicPr>
        <p:blipFill>
          <a:blip r:embed="rId3"/>
          <a:stretch/>
        </p:blipFill>
        <p:spPr>
          <a:xfrm>
            <a:off x="5181480" y="4800600"/>
            <a:ext cx="245916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:\Documents and Settings\s128343\Local Settings\Temp\Temporary Internet Files\Content.IE5\F0YNA0EM\MC900150014[1].wmf"/>
          <p:cNvPicPr/>
          <p:nvPr/>
        </p:nvPicPr>
        <p:blipFill>
          <a:blip r:embed="rId4"/>
          <a:stretch/>
        </p:blipFill>
        <p:spPr>
          <a:xfrm>
            <a:off x="990720" y="5105520"/>
            <a:ext cx="208584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74304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legislative branch is usually called the congr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job is to make laws and pass them down to the president to be approv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                               </a:t>
            </a: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EXTRA CRED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                                    </a:t>
            </a: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IS NEX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C:\Documents and Settings\s128343\Local Settings\Temp\Temporary Internet Files\Content.IE5\9N7UUISS\MP900442808[1].jpg"/>
          <p:cNvPicPr/>
          <p:nvPr/>
        </p:nvPicPr>
        <p:blipFill>
          <a:blip r:embed="rId2"/>
          <a:stretch/>
        </p:blipFill>
        <p:spPr>
          <a:xfrm>
            <a:off x="220968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C:\Documents and Settings\s128343\Local Settings\Temp\Temporary Internet Files\Content.IE5\X7AK3MZU\MC900338676[1].wmf"/>
          <p:cNvPicPr/>
          <p:nvPr/>
        </p:nvPicPr>
        <p:blipFill>
          <a:blip r:embed="rId3"/>
          <a:stretch/>
        </p:blipFill>
        <p:spPr>
          <a:xfrm>
            <a:off x="5792760" y="5181480"/>
            <a:ext cx="173664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0720" y="743040"/>
            <a:ext cx="7255080" cy="725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488c5"/>
                </a:solidFill>
                <a:latin typeface="Trebuchet MS"/>
              </a:rPr>
              <a:t>The person who runs the executive branch is brack obam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488c5"/>
                </a:solidFill>
                <a:latin typeface="Trebuchet MS"/>
              </a:rPr>
              <a:t>Brack Obama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2" descr="C:\Documents and Settings\s128343\Local Settings\Temp\Temporary Internet Files\Content.IE5\6QQHF0E4\MC900440038[1].wmf"/>
          <p:cNvPicPr/>
          <p:nvPr/>
        </p:nvPicPr>
        <p:blipFill>
          <a:blip r:embed="rId2"/>
          <a:stretch/>
        </p:blipFill>
        <p:spPr>
          <a:xfrm>
            <a:off x="2895480" y="1981080"/>
            <a:ext cx="8146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s128343\Local Settings\Temp\Temporary Internet Files\Content.IE5\6QQHF0E4\MC900433824[1].png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s128343\Local Settings\Temp\Temporary Internet Files\Content.IE5\X7AK3MZU\MC900433818[1].png"/>
          <p:cNvPicPr/>
          <p:nvPr/>
        </p:nvPicPr>
        <p:blipFill>
          <a:blip r:embed="rId2"/>
          <a:stretch/>
        </p:blipFill>
        <p:spPr>
          <a:xfrm>
            <a:off x="4952880" y="2819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Documents and Settings\s128343\Local Settings\Temp\Temporary Internet Files\Content.IE5\6QQHF0E4\MC900433823[1].png"/>
          <p:cNvPicPr/>
          <p:nvPr/>
        </p:nvPicPr>
        <p:blipFill>
          <a:blip r:embed="rId3"/>
          <a:stretch/>
        </p:blipFill>
        <p:spPr>
          <a:xfrm>
            <a:off x="6629400" y="5181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:\Documents and Settings\s128343\Local Settings\Temp\Temporary Internet Files\Content.IE5\4HGPD06K\MC900433821[1].png"/>
          <p:cNvPicPr/>
          <p:nvPr/>
        </p:nvPicPr>
        <p:blipFill>
          <a:blip r:embed="rId4"/>
          <a:stretch/>
        </p:blipFill>
        <p:spPr>
          <a:xfrm>
            <a:off x="327672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:\Documents and Settings\s128343\Local Settings\Temp\Temporary Internet Files\Content.IE5\7ID4F28K\MC900434743[1].png"/>
          <p:cNvPicPr/>
          <p:nvPr/>
        </p:nvPicPr>
        <p:blipFill>
          <a:blip r:embed="rId5"/>
          <a:stretch/>
        </p:blipFill>
        <p:spPr>
          <a:xfrm>
            <a:off x="335268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9:13:36Z</dcterms:created>
  <dc:creator>TechSpec</dc:creator>
  <dc:description/>
  <dc:language>en-US</dc:language>
  <cp:lastModifiedBy>TechSpec</cp:lastModifiedBy>
  <dcterms:modified xsi:type="dcterms:W3CDTF">2012-03-26T19:05:27Z</dcterms:modified>
  <cp:revision>6</cp:revision>
  <dc:subject/>
  <dc:title>The branches of government</dc:title>
</cp:coreProperties>
</file>